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F02-5858-4CB8-B3E8-2517369B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A75-522E-4C35-B170-001242E9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EB5-935B-4025-A066-04A19017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052-0C12-46FE-A034-78D3C42F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276-6493-44F1-9AE5-FCD444A9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3C3-1C1D-4D39-8453-4C34EA68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43A-21CB-4B47-8D4F-BB1615CE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D18-3F79-4C8E-B72D-FBBF990D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D78-4C23-4301-BAAD-4E15AC32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AAD-7921-4FAD-A1D6-4647896A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3AA-28A9-477F-9858-A390111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366-D370-4229-B616-CE700CEF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B9A5-A4AE-43C2-8234-A02203E474DB}" type="slidenum">
              <a:rPr b="0" lang="th-T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23"/>
          <p:cNvGrpSpPr/>
          <p:nvPr/>
        </p:nvGrpSpPr>
        <p:grpSpPr>
          <a:xfrm>
            <a:off x="438120" y="785880"/>
            <a:ext cx="6114960" cy="1122120"/>
            <a:chOff x="438120" y="785880"/>
            <a:chExt cx="6114960" cy="1122120"/>
          </a:xfrm>
        </p:grpSpPr>
        <p:pic>
          <p:nvPicPr>
            <p:cNvPr id="42" name="Rectangle 23" descr=""/>
            <p:cNvPicPr/>
            <p:nvPr/>
          </p:nvPicPr>
          <p:blipFill>
            <a:blip r:embed="rId1"/>
            <a:stretch/>
          </p:blipFill>
          <p:spPr>
            <a:xfrm>
              <a:off x="438120" y="785880"/>
              <a:ext cx="611496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00040" y="880920"/>
              <a:ext cx="6000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Elephant"/>
                  <a:cs typeface="KodchiangUPC"/>
                </a:rPr>
                <a:t>โรงพยาบาลสมเด็จพระยุพราชเลิงนกทา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Elephant"/>
                  <a:cs typeface="KodchiangUPC"/>
                </a:rPr>
                <a:t>จังหวัดยโสธร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Rectangle 10"/>
          <p:cNvGrpSpPr/>
          <p:nvPr/>
        </p:nvGrpSpPr>
        <p:grpSpPr>
          <a:xfrm>
            <a:off x="-165240" y="8185680"/>
            <a:ext cx="7078680" cy="2135880"/>
            <a:chOff x="-165240" y="8185680"/>
            <a:chExt cx="7078680" cy="2135880"/>
          </a:xfrm>
        </p:grpSpPr>
        <p:pic>
          <p:nvPicPr>
            <p:cNvPr id="45" name="Rectangle 10" descr=""/>
            <p:cNvPicPr/>
            <p:nvPr/>
          </p:nvPicPr>
          <p:blipFill>
            <a:blip r:embed="rId2"/>
            <a:stretch/>
          </p:blipFill>
          <p:spPr>
            <a:xfrm>
              <a:off x="-165240" y="8358120"/>
              <a:ext cx="70786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8185680"/>
              <a:ext cx="6858000" cy="21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Elephant"/>
                  <a:ea typeface="Angsana New"/>
                </a:rPr>
                <a:t>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Elephant"/>
                  <a:ea typeface="Angsana New"/>
                </a:rPr>
                <a:t>Application Summary Report</a:t>
              </a:r>
              <a:r>
                <a:rPr b="1" lang="en-US" sz="2600" spc="-1" strike="noStrike">
                  <a:solidFill>
                    <a:srgbClr val="ffffff"/>
                  </a:solidFill>
                  <a:latin typeface="Elephant"/>
                  <a:ea typeface="Angsana New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Elephant"/>
                  <a:ea typeface="Univers-Black"/>
                </a:rPr>
                <a:t>200</a:t>
              </a:r>
              <a:r>
                <a:rPr b="1" lang="en-US" sz="2600" spc="-1" strike="noStrike">
                  <a:solidFill>
                    <a:srgbClr val="ffffff"/>
                  </a:solidFill>
                  <a:latin typeface="Elephant"/>
                  <a:ea typeface="Angsana New"/>
                </a:rPr>
                <a:t>8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Elephant"/>
                  <a:ea typeface="Angsana New"/>
                </a:rPr>
                <a:t>                </a:t>
              </a:r>
              <a:r>
                <a:rPr b="1" lang="th-TH" sz="3600" spc="-1" strike="noStrike">
                  <a:solidFill>
                    <a:srgbClr val="ffffff"/>
                  </a:solidFill>
                  <a:latin typeface="Elephant"/>
                  <a:cs typeface="KodchiangUPC"/>
                </a:rPr>
                <a:t>รายงานวิธีการและผลการดำเนินงาน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Univers-Black"/>
                  <a:ea typeface="KodchiangUPC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KodchiangUPC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6"/>
          <p:cNvSpPr/>
          <p:nvPr/>
        </p:nvSpPr>
        <p:spPr>
          <a:xfrm>
            <a:off x="0" y="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500040" y="306360"/>
            <a:ext cx="6000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Elephant"/>
              </a:rPr>
              <a:t>LOENGNOKTHA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Elephant"/>
              </a:rPr>
              <a:t>Crown Prince Hospit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572080" y="0"/>
            <a:ext cx="1285920" cy="10024920"/>
          </a:xfrm>
          <a:custGeom>
            <a:avLst/>
            <a:gdLst>
              <a:gd name="textAreaLeft" fmla="*/ 12600 w 1285920"/>
              <a:gd name="textAreaRight" fmla="*/ 1273320 w 1285920"/>
              <a:gd name="textAreaTop" fmla="*/ 12600 h 10024920"/>
              <a:gd name="textAreaBottom" fmla="*/ 10012320 h 10024920"/>
            </a:gdLst>
            <a:ahLst/>
            <a:rect l="textAreaLeft" t="textAreaTop" r="textAreaRight" b="textAreaBottom"/>
            <a:pathLst>
              <a:path w="21600" h="168351">
                <a:moveTo>
                  <a:pt x="734" y="0"/>
                </a:moveTo>
                <a:arcTo wR="734" hR="734" stAng="16200000" swAng="-5400000"/>
                <a:lnTo>
                  <a:pt x="0" y="167617"/>
                </a:lnTo>
                <a:arcTo wR="734" hR="734" stAng="10800000" swAng="-5400000"/>
                <a:lnTo>
                  <a:pt x="20866" y="168351"/>
                </a:lnTo>
                <a:arcTo wR="734" hR="734" stAng="5400000" swAng="-5400000"/>
                <a:lnTo>
                  <a:pt x="21600" y="734"/>
                </a:lnTo>
                <a:arcTo wR="734" hR="734" stAng="0" swAng="-5400000"/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928800" y="2452680"/>
            <a:ext cx="5572080" cy="5786280"/>
            <a:chOff x="928800" y="2452680"/>
            <a:chExt cx="5572080" cy="5786280"/>
          </a:xfrm>
        </p:grpSpPr>
        <p:pic>
          <p:nvPicPr>
            <p:cNvPr id="51" name="Picture 3" descr="DSC05324.JPG"/>
            <p:cNvPicPr/>
            <p:nvPr/>
          </p:nvPicPr>
          <p:blipFill>
            <a:blip r:embed="rId3"/>
            <a:stretch/>
          </p:blipFill>
          <p:spPr>
            <a:xfrm>
              <a:off x="4230720" y="6022800"/>
              <a:ext cx="103176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DSC_0627.JPG"/>
            <p:cNvPicPr/>
            <p:nvPr/>
          </p:nvPicPr>
          <p:blipFill>
            <a:blip r:embed="rId4"/>
            <a:stretch/>
          </p:blipFill>
          <p:spPr>
            <a:xfrm>
              <a:off x="1960560" y="6022800"/>
              <a:ext cx="123804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DSC_9997.JPG"/>
            <p:cNvPicPr/>
            <p:nvPr/>
          </p:nvPicPr>
          <p:blipFill>
            <a:blip r:embed="rId5"/>
            <a:stretch/>
          </p:blipFill>
          <p:spPr>
            <a:xfrm>
              <a:off x="3198960" y="3642480"/>
              <a:ext cx="107316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6" descr="DSC03942.JPG"/>
            <p:cNvPicPr/>
            <p:nvPr/>
          </p:nvPicPr>
          <p:blipFill>
            <a:blip r:embed="rId6"/>
            <a:stretch/>
          </p:blipFill>
          <p:spPr>
            <a:xfrm>
              <a:off x="3198960" y="6022800"/>
              <a:ext cx="104976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" descr="รับรางวัลหน่วยกู้ชีพดีเด่นศูนย์นเรนทร 49"/>
            <p:cNvPicPr/>
            <p:nvPr/>
          </p:nvPicPr>
          <p:blipFill>
            <a:blip r:embed="rId7"/>
            <a:stretch/>
          </p:blipFill>
          <p:spPr>
            <a:xfrm>
              <a:off x="1960560" y="3642480"/>
              <a:ext cx="1238040" cy="7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3" descr="DSC_1634"/>
            <p:cNvPicPr/>
            <p:nvPr/>
          </p:nvPicPr>
          <p:blipFill>
            <a:blip r:embed="rId8"/>
            <a:stretch/>
          </p:blipFill>
          <p:spPr>
            <a:xfrm>
              <a:off x="2717280" y="4386240"/>
              <a:ext cx="2036520" cy="16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เดินรณรงค์ฯ"/>
            <p:cNvPicPr/>
            <p:nvPr/>
          </p:nvPicPr>
          <p:blipFill>
            <a:blip r:embed="rId9"/>
            <a:stretch/>
          </p:blipFill>
          <p:spPr>
            <a:xfrm>
              <a:off x="4230720" y="3642480"/>
              <a:ext cx="1045440" cy="74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Process design.jpg"/>
            <p:cNvPicPr/>
            <p:nvPr/>
          </p:nvPicPr>
          <p:blipFill>
            <a:blip r:embed="rId10"/>
            <a:stretch/>
          </p:blipFill>
          <p:spPr>
            <a:xfrm>
              <a:off x="4712400" y="4386240"/>
              <a:ext cx="1788480" cy="163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Object 5" descr=""/>
            <p:cNvPicPr/>
            <p:nvPr/>
          </p:nvPicPr>
          <p:blipFill>
            <a:blip r:embed="rId11"/>
            <a:stretch/>
          </p:blipFill>
          <p:spPr>
            <a:xfrm>
              <a:off x="928800" y="4386240"/>
              <a:ext cx="1810800" cy="163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4" descr="LNT-SMM2.jpg"/>
            <p:cNvPicPr/>
            <p:nvPr/>
          </p:nvPicPr>
          <p:blipFill>
            <a:blip r:embed="rId12"/>
            <a:stretch/>
          </p:blipFill>
          <p:spPr>
            <a:xfrm>
              <a:off x="2579760" y="2452680"/>
              <a:ext cx="1880280" cy="12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5" descr="การกำกับกลยุทธ์.jpg"/>
            <p:cNvPicPr/>
            <p:nvPr/>
          </p:nvPicPr>
          <p:blipFill>
            <a:blip r:embed="rId13"/>
            <a:stretch/>
          </p:blipFill>
          <p:spPr>
            <a:xfrm>
              <a:off x="2304360" y="6915240"/>
              <a:ext cx="2338920" cy="132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WordArt 9"/>
          <p:cNvSpPr txBox="1"/>
          <p:nvPr/>
        </p:nvSpPr>
        <p:spPr>
          <a:xfrm rot="5400000">
            <a:off x="2214000" y="4381560"/>
            <a:ext cx="7786800" cy="642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ffff"/>
                </a:solidFill>
                <a:effectLst>
                  <a:outerShdw dist="12600" dir="0" blurRad="0" rotWithShape="0">
                    <a:srgbClr val="cbcbcb">
                      <a:alpha val="80000"/>
                    </a:srgbClr>
                  </a:outerShdw>
                </a:effectLst>
                <a:latin typeface="Elephant"/>
              </a:rPr>
              <a:t>LOENGNOKTHA CROWN PRINCE HOSPITAL</a:t>
            </a:r>
            <a:endParaRPr b="0" lang="en-US" sz="2800" spc="1" strike="noStrike">
              <a:ln w="12600">
                <a:solidFill>
                  <a:srgbClr val="c4b596"/>
                </a:solidFill>
                <a:miter/>
              </a:ln>
              <a:solidFill>
                <a:srgbClr val="ffffff"/>
              </a:solidFill>
              <a:effectLst>
                <a:outerShdw dist="12600" dir="0" blurRad="0" rotWithShape="0">
                  <a:srgbClr val="cbcbcb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pic>
        <p:nvPicPr>
          <p:cNvPr id="63" name="Picture 24" descr="รพร.เลิกนกทา1.tif"/>
          <p:cNvPicPr/>
          <p:nvPr/>
        </p:nvPicPr>
        <p:blipFill>
          <a:blip r:embed="rId14"/>
          <a:stretch/>
        </p:blipFill>
        <p:spPr>
          <a:xfrm>
            <a:off x="500040" y="309600"/>
            <a:ext cx="1071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7:23:32Z</dcterms:created>
  <dc:creator>sompong FUJITSU_NB</dc:creator>
  <dc:description/>
  <dc:language>en-US</dc:language>
  <cp:lastModifiedBy>User</cp:lastModifiedBy>
  <dcterms:modified xsi:type="dcterms:W3CDTF">2008-09-08T01:53:22Z</dcterms:modified>
  <cp:revision>8</cp:revision>
  <dc:subject/>
  <dc:title>Slide 1</dc:title>
</cp:coreProperties>
</file>